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3BB7-3D47-4919-B879-0E09C57C7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958E-57CE-4B73-BD81-7B86C6212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FCA4-854E-4269-A684-DCFC5D77C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ED82-3EB1-438B-988E-6165B2C1F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C023-4825-42BB-9617-D731FC1B2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97EE-0DEA-4E98-82B1-3EB45EEC1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29B5-467E-444D-8363-F104C8DBE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512F-E6B7-4DDB-AE8E-CD88CA567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30A7-7C70-451D-A020-171BE653B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D47A-2CAD-4F11-A316-AF632F715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5FBE-D6D8-4A55-993C-53B0386A2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E5A2-04F5-428E-8DD8-3D4E47AEB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ABEA-CE72-4D7C-9249-847CAC8DC0D7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205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Interview</a:t>
            </a:r>
            <a:br>
              <a:rPr sz="32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view is used to collect data abou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us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specific in dept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dvantage of us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ume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da9a9"/>
                </a:solidFill>
                <a:latin typeface="Century Schoolbook"/>
              </a:rPr>
              <a:t>Observation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bser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you use your senses to collect information about something (objects, people and ev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istic versus Participant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al check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Experiments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are different from other types of research because experiments try to establis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-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ing an experiment, the researcher hopes to show that one thing causes something to ha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 is the thing you are stud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 is the thing you hope to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leaner works best on wind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fertilizer makes plants grow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How to choose the right tool?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ok at the resear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cide what type of information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k, which data collection tool can give you that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You can use more than on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Why our school is not clean?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bserve what students do at different ti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stud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students complete a questionnai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nterview workers at the school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3789360"/>
            <a:ext cx="84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Does exercise improve students’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bserve students before and after exerc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the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th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students maintain a journal or 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lect examination scores before and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da9a9"/>
                </a:solidFill>
                <a:latin typeface="Century Schoolbook"/>
              </a:rPr>
              <a:t>What tools should be used for these research question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484000" y="342864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vity #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ampl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start collecting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a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do you mean by sampl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ampl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maller part of the population.  Researchers often do their research on a sample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students think about the school uni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l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?  Preparatory?  Second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rls?  Bo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nalyzing the Data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ize data in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 the data in Graphs and 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 the data 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data tell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Example !</a:t>
            </a:r>
            <a:br>
              <a:rPr sz="3600"/>
            </a:br>
            <a:br>
              <a:rPr sz="2400"/>
            </a:b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nalyzing a Questionnaire</a:t>
            </a:r>
            <a:br>
              <a:rPr sz="2400"/>
            </a:br>
            <a:br>
              <a:rPr sz="2400"/>
            </a:b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What do students think about Uniform?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2611440"/>
                <a:gridCol w="984240"/>
                <a:gridCol w="1055520"/>
                <a:gridCol w="1268640"/>
                <a:gridCol w="1128600"/>
                <a:gridCol w="1231920"/>
              </a:tblGrid>
              <a:tr h="8139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8640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Scientific Research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Given a topic or question, systematically investigate that topic to discover new information, facts, or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Is the drinking water in Doha homes saf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dvantage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aches students how to create new knowledge; empowers them to study issues that are important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advantage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Takes a lot of one-on-one or small group instruction; and not all students are inter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da9a9"/>
                </a:solidFill>
                <a:latin typeface="Century Schoolbook"/>
              </a:rPr>
              <a:t>What to do with Data ?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9280" y="4797360"/>
          <a:ext cx="8893080" cy="1584360"/>
        </p:xfrm>
        <a:graphic>
          <a:graphicData uri="http://schemas.openxmlformats.org/drawingml/2006/table">
            <a:tbl>
              <a:tblPr/>
              <a:tblGrid>
                <a:gridCol w="2803680"/>
                <a:gridCol w="1056240"/>
                <a:gridCol w="1134000"/>
                <a:gridCol w="1364040"/>
                <a:gridCol w="1212120"/>
                <a:gridCol w="1323000"/>
              </a:tblGrid>
              <a:tr h="10328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871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1989000"/>
          <a:ext cx="8782200" cy="1498680"/>
        </p:xfrm>
        <a:graphic>
          <a:graphicData uri="http://schemas.openxmlformats.org/drawingml/2006/table">
            <a:tbl>
              <a:tblPr/>
              <a:tblGrid>
                <a:gridCol w="2770200"/>
                <a:gridCol w="1042920"/>
                <a:gridCol w="1119240"/>
                <a:gridCol w="1346400"/>
                <a:gridCol w="1197000"/>
                <a:gridCol w="1306440"/>
              </a:tblGrid>
              <a:tr h="10328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05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72040" y="13140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ud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760" y="37522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ud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ahoma"/>
                <a:ea typeface="Tahoma"/>
              </a:rPr>
              <a:t>Summarize data in a Table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2471760"/>
          <a:ext cx="8569440" cy="1604880"/>
        </p:xfrm>
        <a:graphic>
          <a:graphicData uri="http://schemas.openxmlformats.org/drawingml/2006/table">
            <a:tbl>
              <a:tblPr/>
              <a:tblGrid>
                <a:gridCol w="1863720"/>
                <a:gridCol w="1135080"/>
                <a:gridCol w="1428840"/>
                <a:gridCol w="1284120"/>
                <a:gridCol w="1428840"/>
                <a:gridCol w="142884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8542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68360" y="1745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tudents who chose each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ahoma"/>
                <a:ea typeface="Tahoma"/>
              </a:rPr>
              <a:t>Present the data in Graphs and Charts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imes New Roman"/>
                <a:ea typeface="Times New Roman"/>
              </a:rPr>
              <a:t>Interpret the data</a:t>
            </a:r>
            <a:br>
              <a:rPr sz="3600"/>
            </a:br>
            <a:r>
              <a:rPr b="1" i="1" lang="en-US" sz="3600" spc="-1" strike="noStrike">
                <a:solidFill>
                  <a:srgbClr val="0da9a9"/>
                </a:solidFill>
                <a:latin typeface="Times New Roman"/>
                <a:ea typeface="Times New Roman"/>
              </a:rPr>
              <a:t>What does the data tell you?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lor of 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5% of the students like the col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 not 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form’s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0% of the students do not like the col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a9a9"/>
                </a:solidFill>
                <a:latin typeface="Century Schoolbook"/>
              </a:rPr>
              <a:t>Reporting  Research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earch report is essentially telling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the story of how researchers came to do their research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how they went about it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happened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the findings are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cus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we can all learn from this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Purpose of the research repor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ganization and structure of the research report</a:t>
            </a:r>
            <a:r>
              <a:rPr b="0" i="1" lang="en-GB" sz="2800" spc="-1" strike="noStrike">
                <a:solidFill>
                  <a:srgbClr val="0da9a9"/>
                </a:solidFill>
                <a:latin typeface="Century Schoolbook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report consists of many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arts are presented in a sequence that begins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ends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560" y="620640"/>
            <a:ext cx="878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Basic structure and organization of report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do this study? What did you hope to find ou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research ques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do this study (Procedures)?  How did you collect your data?  Who was included?  When and where was the study d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din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find out?  Summarize the data in tables or grap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ussion/Conclus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the findings mean? Do the findings answer your research question? What are the implications of your findin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fere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st of references for any work you have c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Different type of report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here are many ways of  reporting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writte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importance of sharing research results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ould have a chance to share what they found with their friends, teachers, principle and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recommendations should be taken seriously and  be considered as valuable con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be a great encouragement if the students participate in making decision in the school and in solving problems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just about teaching students research skills , it is about teaching them how to play effective role i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7701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Shaping students Idea and get the right research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7137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Analyz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8501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Collection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5788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Reporting and Shar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907920"/>
            <a:ext cx="44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a9a9"/>
                </a:solidFill>
                <a:latin typeface="Bookman Old Style"/>
              </a:rPr>
              <a:t>Research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da9a9"/>
                </a:solidFill>
                <a:latin typeface="Bookman Old Style"/>
              </a:rPr>
              <a:t>Framing Research Question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76360" y="4149360"/>
            <a:ext cx="316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Activity #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565360"/>
            <a:ext cx="896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  <a:ea typeface="Arial"/>
              </a:rPr>
              <a:t>Let us try to shape some ide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Where</a:t>
            </a: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 to get answers to the research question?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(World Wide We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brary (books, journals, magazines, printed mater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resources (museums, ministries, medical cen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50028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How</a:t>
            </a: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 to get answers to the research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199400"/>
            <a:ext cx="77058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estionnaires (Surve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What is Data?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y consist of numbers, words, or images, particularly as measurements or observations of a set of variables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Data Collection Tools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, exa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198900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ls for Question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rveys and Question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5280" y="12668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 can classify the tools like the follow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ading and Writing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about the t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Some Common Data Collection Tools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naire and surve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da9a9"/>
                </a:solidFill>
                <a:latin typeface="Century Schoolbook"/>
              </a:rPr>
              <a:t>Questionnaire</a:t>
            </a:r>
            <a:br>
              <a:rPr sz="3400"/>
            </a:br>
            <a:endParaRPr b="1" i="1" lang="en-US" sz="3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n instrument consisting of a series of questions for gathering information from respon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reach mor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and surveys usually used to collect two types of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s and opin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3:08Z</dcterms:modified>
  <cp:revision>429</cp:revision>
  <dc:subject/>
  <dc:title>No Slide Title</dc:title>
</cp:coreProperties>
</file>